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8E89-9258-49E2-9618-CEBFB4805412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FC87-0F5E-47A1-9CC8-A5DF31076C8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12C5-7DFD-4A5C-9F2F-00D056109C8F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0DA1-2185-42A6-BCB1-F1F77954F8EB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A328-0F72-48A6-9508-5A620DDF94AF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940-CD7A-43B2-8B59-858FE726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477-D7D6-428D-BE4C-22FCE3A6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C8B3-CE5E-40BA-BB47-FC077154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D95-1EFD-4CE5-9067-3D9C90F8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3F9-3B86-4E3C-A071-E26F4A73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995-D53C-409D-872F-717CC028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B566-0158-43BF-BF07-6E55F008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60D-9FAB-43E1-810F-2FB52DEB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B4E-2AF0-4419-ABA0-966323EB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90A-F65D-4FDB-9F81-C6026366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2FF-B0DF-4F59-905A-7C135C03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F90-EF15-473D-B837-808199C9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DC6A-487C-47DE-9523-20FC68EAF2C1}" type="datetime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E232-C33C-4683-A125-37DC5802D870}" type="slidenum">
              <a:rPr b="0" lang="en-GB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85840" y="1857240"/>
            <a:ext cx="4390920" cy="3778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Struggling with organic chemistry? </a:t>
            </a:r>
            <a:r>
              <a:rPr b="1" i="1" lang="en-GB" sz="2000" spc="-1" strike="noStrike">
                <a:solidFill>
                  <a:srgbClr val="000000"/>
                </a:solidFill>
                <a:latin typeface="Lucida Sans Unicode"/>
              </a:rPr>
              <a:t>Then try the Easter Exercise!, first trialled in 2010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t was designed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help students to improve their basic skills in organic chemist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assist them in working effectively on their ow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boost their confidence and keep them engag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" name="Picture 6" descr="org_example.jpg"/>
          <p:cNvPicPr/>
          <p:nvPr/>
        </p:nvPicPr>
        <p:blipFill>
          <a:blip r:embed="rId1"/>
          <a:stretch/>
        </p:blipFill>
        <p:spPr>
          <a:xfrm>
            <a:off x="4572000" y="2857680"/>
            <a:ext cx="4276800" cy="2428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285840" y="2000160"/>
            <a:ext cx="4390920" cy="45133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Problem set to complete over the Easter holida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A video mark scheme will be available for self-assess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Marks will reported back via VLE (+ your feedback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he video mark scheme resembles a tutori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4786200" y="2286000"/>
            <a:ext cx="4168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" name="Markscheme Q3.wmv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715600" cy="48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631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0" y="1571760"/>
            <a:ext cx="4714920" cy="4639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375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d3f49"/>
                </a:solidFill>
                <a:latin typeface="Lucida Sans Unicode"/>
              </a:rPr>
              <a:t>Feedback from the students last year was excellent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The resources are fantastic…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…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 feel that I got some decent learning out of this exercis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t was a brilliant exercise in covering things I had already understood, whilst simultaneously highlighting things I'd clearly managed to remember or even learn wrong in the first plac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714920" y="2357280"/>
            <a:ext cx="427968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0" y="1857240"/>
            <a:ext cx="4714920" cy="395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Some students talked about </a:t>
            </a:r>
            <a:r>
              <a:rPr b="1" lang="en-GB" sz="2400" spc="-1" strike="noStrike">
                <a:solidFill>
                  <a:srgbClr val="2d3f49"/>
                </a:solidFill>
                <a:latin typeface="Lucida Sans Unicode"/>
              </a:rPr>
              <a:t>reflection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Improvement in attain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Won the </a:t>
            </a:r>
            <a:r>
              <a:rPr b="1" lang="en-GB" sz="2400" spc="-1" strike="noStrike">
                <a:solidFill>
                  <a:srgbClr val="3333cc"/>
                </a:solidFill>
                <a:latin typeface="Lucida Sans Unicode"/>
              </a:rPr>
              <a:t>‘Most effective use of video in an educational context’ 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award from the AL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Further resources are being develope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714920" y="2571840"/>
            <a:ext cx="416880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9:22:55Z</dcterms:created>
  <dc:creator>user</dc:creator>
  <dc:description/>
  <dc:language>en-US</dc:language>
  <cp:lastModifiedBy>dr1d06</cp:lastModifiedBy>
  <dcterms:modified xsi:type="dcterms:W3CDTF">2011-03-28T19:10:53Z</dcterms:modified>
  <cp:revision>200</cp:revision>
  <dc:subject/>
  <dc:title>PowerPoint Presentation</dc:title>
</cp:coreProperties>
</file>